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5BD7E-4CB3-4FCE-9020-4F20AD87B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B6DAC-F193-46C2-BCEE-4D48D9ADE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BDBA8-BB71-43DB-A8FD-06D6682AA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3E001-7724-40B7-8167-96F44D3BD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16688-FD17-412E-9960-BCE6F7241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A6FD9-649F-4838-8B1E-1723A29E5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A2878-22C5-4E5F-8107-9E5D69BD0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7B216-9EDB-465E-88F7-3DB940002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682A-3E4E-4302-B67B-DF3E9B7EF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83FCB-4D51-4450-800D-E888975D6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FA3CD-E0F7-488B-8D36-F8BA9124D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3D25-3027-4B4E-80A7-742868BAA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C7A3-C7F5-4182-8913-80582BEEB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GulimChe"/>
                <a:ea typeface="GulimChe"/>
              </a:rPr>
              <a:t>Stem Cells</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Che"/>
                <a:ea typeface="GulimChe"/>
              </a:rPr>
              <a:t>By Sugandha Srivastav</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Problems and Ques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Che"/>
              </a:rPr>
              <a:t>  </a:t>
            </a:r>
            <a:r>
              <a:rPr b="0" lang="en-US" sz="2400" spc="-1" strike="noStrike">
                <a:solidFill>
                  <a:srgbClr val="ffffff"/>
                </a:solidFill>
                <a:latin typeface="GulimChe"/>
              </a:rPr>
              <a:t>Theoretically stem cell therapy may sound easy: transplant the stem cells into the damaged area and direct them to grow new healthy tissue; but in practice many problems  may arise such as:</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What are the signals that make stem cells differentiat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How long would stem cell therapy last-would the newly differentiated stem cells work for as long?</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Compatibility</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There is the possibility of embryonic stem cells developing into tumors as they are designed to continuously divide and differentiate, so how exactly do we control their growth?</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ea typeface="GulimChe"/>
              </a:rPr>
              <a:t>Stem Cell Ethics</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Stem cell research comes with its share of ethical issues.</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 </a:t>
            </a:r>
            <a:r>
              <a:rPr b="0" lang="en-US" sz="1600" spc="-1" strike="noStrike">
                <a:solidFill>
                  <a:srgbClr val="ffffff"/>
                </a:solidFill>
                <a:latin typeface="GulimChe"/>
                <a:ea typeface="GulimChe"/>
              </a:rPr>
              <a:t>For example:</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400"/>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ulimChe"/>
                <a:ea typeface="GulimChe"/>
              </a:rPr>
              <a:t>Do embryonic stem cells represent human life? Is it morally correct to destroy them for research and therapies?</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View 1: Yes it is since the embryonic destruction can save lives and destroying an embryo is not the same as killing a living human-being. An embryo is merely a developing ‘life’.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View 2: No it isn’t because it interferes with laws of nature. What is the point of destroying one life to just save another?</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400"/>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ulimChe"/>
                <a:ea typeface="GulimChe"/>
              </a:rPr>
              <a:t>Should frozen embryos through vitro fertilization be used to create stem cells?</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View 1: Yes, since it is for a good purpose.</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View 2: No, since it is unnatural.</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ulimChe"/>
                <a:ea typeface="GulimChe"/>
              </a:rPr>
              <a:t>Religion often plays a role in these debates as some people think that stem cell research will lead people to playing the role of “god”.</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What is a stem Cel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Stem Cells are unspecialized cells that renew themselves for long periods through cell division.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These unspecialized cells can divide and differentiate into specialized cells in our body. They do this by activating the genes that cater the specialized cell.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All cells in our body originated from stem cells, thus the name‘stem’.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   Muscle cells, nerve cells, blood cells all do not replicate themselves, so it is obvious that there is </a:t>
            </a:r>
            <a:r>
              <a:rPr b="0" i="1" lang="en-US" sz="1800" spc="-1" strike="noStrike">
                <a:solidFill>
                  <a:srgbClr val="ffffff"/>
                </a:solidFill>
                <a:latin typeface="GulimChe"/>
              </a:rPr>
              <a:t>something else</a:t>
            </a:r>
            <a:r>
              <a:rPr b="0" lang="en-US" sz="1800" spc="-1" strike="noStrike">
                <a:solidFill>
                  <a:srgbClr val="ffffff"/>
                </a:solidFill>
                <a:latin typeface="GulimChe"/>
              </a:rPr>
              <a:t> that is producing them. For example, we all know that blood cells are made in bone marrow but do we know how? If we take a closer look at our bone marrow we’ll see the presence of many unspecialized cells, stem cells, waiting for the signals to tell them to differentiat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How Do They Do i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Che"/>
              </a:rPr>
              <a:t>Like mentioned before, when a stem cells receives the right signals it produces specialized cells. This happens because some of these signals enter the nucleus of the stem cell and activate certain genes that result in the production of specific proteins that make the stem cell look, act and actually become the specialized cell it’s supposed to b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Types of stem Cells</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Early Embryonic Stem Cells</a:t>
            </a:r>
            <a:r>
              <a:rPr b="0" lang="en-US" sz="1400" spc="-1" strike="noStrike">
                <a:solidFill>
                  <a:srgbClr val="ffffff"/>
                </a:solidFill>
                <a:latin typeface="GulimChe"/>
              </a:rPr>
              <a:t>: After fertilization the zygote divides to produce a group of stem cells that are totipotent-meaning </a:t>
            </a:r>
            <a:r>
              <a:rPr b="1" lang="en-US" sz="1400" spc="-1" strike="noStrike">
                <a:solidFill>
                  <a:srgbClr val="ffffff"/>
                </a:solidFill>
                <a:latin typeface="GulimChe"/>
              </a:rPr>
              <a:t>they can differentiate into </a:t>
            </a:r>
            <a:r>
              <a:rPr b="1" i="1" lang="en-US" sz="1400" spc="-1" strike="noStrike">
                <a:solidFill>
                  <a:srgbClr val="ffffff"/>
                </a:solidFill>
                <a:latin typeface="GulimChe"/>
              </a:rPr>
              <a:t>any</a:t>
            </a:r>
            <a:r>
              <a:rPr b="1" lang="en-US" sz="1400" spc="-1" strike="noStrike">
                <a:solidFill>
                  <a:srgbClr val="ffffff"/>
                </a:solidFill>
                <a:latin typeface="GulimChe"/>
              </a:rPr>
              <a:t> kind of specialized in our body. This group of cells is called an embryo. </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Blastocyst Embryonic Stem Cells</a:t>
            </a:r>
            <a:r>
              <a:rPr b="0" lang="en-US" sz="1400" spc="-1" strike="noStrike">
                <a:solidFill>
                  <a:srgbClr val="ffffff"/>
                </a:solidFill>
                <a:latin typeface="GulimChe"/>
              </a:rPr>
              <a:t>: Seven days after fertilization the embryo form a hollow ball-like structure called a blastocyst which contains stem cells that are pluripotent- meaning that</a:t>
            </a:r>
            <a:r>
              <a:rPr b="1" lang="en-US" sz="1400" spc="-1" strike="noStrike">
                <a:solidFill>
                  <a:srgbClr val="ffffff"/>
                </a:solidFill>
                <a:latin typeface="GulimChe"/>
              </a:rPr>
              <a:t> they can differentiate into </a:t>
            </a:r>
            <a:r>
              <a:rPr b="1" i="1" lang="en-US" sz="1400" spc="-1" strike="noStrike">
                <a:solidFill>
                  <a:srgbClr val="ffffff"/>
                </a:solidFill>
                <a:latin typeface="GulimChe"/>
              </a:rPr>
              <a:t>most</a:t>
            </a:r>
            <a:r>
              <a:rPr b="1" lang="en-US" sz="1400" spc="-1" strike="noStrike">
                <a:solidFill>
                  <a:srgbClr val="ffffff"/>
                </a:solidFill>
                <a:latin typeface="GulimChe"/>
              </a:rPr>
              <a:t> kind of specialized cells.</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Fetal Stem Cells</a:t>
            </a:r>
            <a:r>
              <a:rPr b="0" lang="en-US" sz="1400" spc="-1" strike="noStrike">
                <a:solidFill>
                  <a:srgbClr val="ffffff"/>
                </a:solidFill>
                <a:latin typeface="GulimChe"/>
              </a:rPr>
              <a:t>: During the eight week the embryo is called a fetus and has developed a human-like form. Stem cells in the fetus are responsible for the development of all tissues before birth. These fetal stem cells are </a:t>
            </a:r>
            <a:r>
              <a:rPr b="1" lang="en-US" sz="1400" spc="-1" strike="noStrike">
                <a:solidFill>
                  <a:srgbClr val="ffffff"/>
                </a:solidFill>
                <a:latin typeface="GulimChe"/>
              </a:rPr>
              <a:t>like blastocyst</a:t>
            </a:r>
            <a:r>
              <a:rPr b="0" lang="en-US" sz="1400" spc="-1" strike="noStrike">
                <a:solidFill>
                  <a:srgbClr val="ffffff"/>
                </a:solidFill>
                <a:latin typeface="GulimChe"/>
              </a:rPr>
              <a:t> embryonic stem cells pluripotent.</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Umbilical cord stem cells</a:t>
            </a:r>
            <a:r>
              <a:rPr b="0" lang="en-US" sz="1400" spc="-1" strike="noStrike">
                <a:solidFill>
                  <a:srgbClr val="ffffff"/>
                </a:solidFill>
                <a:latin typeface="GulimChe"/>
              </a:rPr>
              <a:t>: The umbilical cord is what transports nutrients, oxygen etc. from the placenta to the fetus. The stem cells in the blood of this cord are genetically identical to the newborn child. These stem cells are </a:t>
            </a:r>
            <a:r>
              <a:rPr b="1" lang="en-US" sz="1400" spc="-1" strike="noStrike">
                <a:solidFill>
                  <a:srgbClr val="ffffff"/>
                </a:solidFill>
                <a:latin typeface="GulimChe"/>
              </a:rPr>
              <a:t>multipotent-meaning they can differentiate into only a limited number of specialized cells.</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Adult stem cell :</a:t>
            </a:r>
            <a:r>
              <a:rPr b="0" lang="en-US" sz="1400" spc="-1" strike="noStrike">
                <a:solidFill>
                  <a:srgbClr val="ffffff"/>
                </a:solidFill>
                <a:latin typeface="GulimChe"/>
              </a:rPr>
              <a:t> Adult stem cells are present in infants and children as well. These stem cells reside in already developed tissues to direct growth and maintenance throughout life. Like umbilical cord stem cells, adult stem cells are multipotent.</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Health problems that might be treated by stem cells: neurological disorders, spinal cord, heart, limb, burns, diabetes"/>
          <p:cNvPicPr/>
          <p:nvPr/>
        </p:nvPicPr>
        <p:blipFill>
          <a:blip r:embed="rId1"/>
          <a:stretch/>
        </p:blipFill>
        <p:spPr>
          <a:xfrm>
            <a:off x="5715000" y="1371600"/>
            <a:ext cx="3171960" cy="426708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What is their Significance?</a:t>
            </a:r>
            <a:endParaRPr b="0" lang="en-US" sz="4400" spc="-1" strike="noStrike">
              <a:solidFill>
                <a:srgbClr val="000000"/>
              </a:solidFill>
              <a:latin typeface="Arial"/>
            </a:endParaRPr>
          </a:p>
        </p:txBody>
      </p:sp>
      <p:sp>
        <p:nvSpPr>
          <p:cNvPr id="51" name="PlaceHolder 2"/>
          <p:cNvSpPr>
            <a:spLocks noGrp="1"/>
          </p:cNvSpPr>
          <p:nvPr>
            <p:ph/>
          </p:nvPr>
        </p:nvSpPr>
        <p:spPr>
          <a:xfrm>
            <a:off x="228240" y="1599840"/>
            <a:ext cx="5334120" cy="3505320"/>
          </a:xfrm>
          <a:prstGeom prst="rect">
            <a:avLst/>
          </a:prstGeom>
          <a:noFill/>
          <a:ln w="0">
            <a:noFill/>
          </a:ln>
        </p:spPr>
        <p:txBody>
          <a:bodyPr lIns="90000" rIns="90000" tIns="46800" bIns="46800" anchor="t">
            <a:normAutofit fontScale="76000"/>
          </a:bodyPr>
          <a:p>
            <a:pPr marL="260640" indent="-260640">
              <a:lnSpc>
                <a:spcPct val="9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rPr>
              <a:t>Stem cells on their own do not have a specialized job for example: a group of stem cells cannot function together to make our heart beat. However, a stem cell is like a neutral cell waiting to divide when there needs to be </a:t>
            </a:r>
            <a:r>
              <a:rPr b="0" i="1" lang="en-US" sz="1400" spc="-1" strike="noStrike">
                <a:solidFill>
                  <a:srgbClr val="ffffff"/>
                </a:solidFill>
                <a:latin typeface="GulimChe"/>
              </a:rPr>
              <a:t>growth or repair</a:t>
            </a:r>
            <a:r>
              <a:rPr b="0" lang="en-US" sz="1400" spc="-1" strike="noStrike">
                <a:solidFill>
                  <a:srgbClr val="ffffff"/>
                </a:solidFill>
                <a:latin typeface="GulimChe"/>
              </a:rPr>
              <a:t>. </a:t>
            </a:r>
            <a:endParaRPr b="0" lang="en-US" sz="1400" spc="-1" strike="noStrike">
              <a:solidFill>
                <a:srgbClr val="000000"/>
              </a:solidFill>
              <a:latin typeface="Arial"/>
            </a:endParaRPr>
          </a:p>
          <a:p>
            <a:pPr marL="260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9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Che"/>
              </a:rPr>
              <a:t>All deaths are caused due to </a:t>
            </a:r>
            <a:r>
              <a:rPr b="1" i="1" lang="en-US" sz="1400" spc="-1" strike="noStrike">
                <a:solidFill>
                  <a:srgbClr val="ffffff"/>
                </a:solidFill>
                <a:latin typeface="GulimChe"/>
              </a:rPr>
              <a:t>growth and repair</a:t>
            </a:r>
            <a:r>
              <a:rPr b="1" lang="en-US" sz="1400" spc="-1" strike="noStrike">
                <a:solidFill>
                  <a:srgbClr val="ffffff"/>
                </a:solidFill>
                <a:latin typeface="GulimChe"/>
              </a:rPr>
              <a:t> problems.</a:t>
            </a:r>
            <a:r>
              <a:rPr b="0" lang="en-US" sz="1400" spc="-1" strike="noStrike">
                <a:solidFill>
                  <a:srgbClr val="ffffff"/>
                </a:solidFill>
                <a:latin typeface="GulimChe"/>
              </a:rPr>
              <a:t> For example, if a person has Parkinson’s disease their dopamine producing neurons will degenerate. We know that neurons themselves do not divide to produce more neurons but we do know that </a:t>
            </a:r>
            <a:r>
              <a:rPr b="1" lang="en-US" sz="1400" spc="-1" strike="noStrike">
                <a:solidFill>
                  <a:srgbClr val="ffffff"/>
                </a:solidFill>
                <a:latin typeface="GulimChe"/>
              </a:rPr>
              <a:t>stem cells are the cells from which all specialized cells come. So we can transplant some of these cells</a:t>
            </a:r>
            <a:r>
              <a:rPr b="0" lang="en-US" sz="1400" spc="-1" strike="noStrike">
                <a:solidFill>
                  <a:srgbClr val="ffffff"/>
                </a:solidFill>
                <a:latin typeface="GulimChe"/>
              </a:rPr>
              <a:t> into the patient so that they differentiate and produce a healthy set of dopamine producing neurons. </a:t>
            </a:r>
            <a:endParaRPr b="0" lang="en-US" sz="1400" spc="-1" strike="noStrike">
              <a:solidFill>
                <a:srgbClr val="000000"/>
              </a:solidFill>
              <a:latin typeface="Arial"/>
            </a:endParaRPr>
          </a:p>
          <a:p>
            <a:pPr marL="260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9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Che"/>
              </a:rPr>
              <a:t>This is the goal of stem cell therapy-to repair damaged tissue that can’t heal itself.</a:t>
            </a:r>
            <a:endParaRPr b="0" lang="en-US" sz="1400" spc="-1" strike="noStrike">
              <a:solidFill>
                <a:srgbClr val="000000"/>
              </a:solidFill>
              <a:latin typeface="Arial"/>
            </a:endParaRPr>
          </a:p>
          <a:p>
            <a:pPr marL="260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ulimChe"/>
              </a:rPr>
              <a:t>       </a:t>
            </a:r>
            <a:r>
              <a:rPr b="1" lang="en-US" sz="1600" spc="-1" strike="noStrike">
                <a:solidFill>
                  <a:srgbClr val="ffffff"/>
                </a:solidFill>
                <a:latin typeface="GulimChe"/>
              </a:rPr>
              <a:t>It is useful to society as it has the potential to greatly increase the life expectancy of people around the world.</a:t>
            </a: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
          <p:cNvSpPr/>
          <p:nvPr/>
        </p:nvSpPr>
        <p:spPr>
          <a:xfrm>
            <a:off x="246240" y="14652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Transplant steps"/>
          <p:cNvPicPr/>
          <p:nvPr/>
        </p:nvPicPr>
        <p:blipFill>
          <a:blip r:embed="rId1"/>
          <a:stretch/>
        </p:blipFill>
        <p:spPr>
          <a:xfrm>
            <a:off x="1219320" y="1905120"/>
            <a:ext cx="7091280" cy="301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Technological</a:t>
            </a:r>
            <a:r>
              <a:rPr b="0" lang="en-US" sz="4400" spc="-1" strike="noStrike">
                <a:solidFill>
                  <a:srgbClr val="000000"/>
                </a:solidFill>
                <a:latin typeface="GulimChe"/>
              </a:rPr>
              <a:t> </a:t>
            </a:r>
            <a:r>
              <a:rPr b="0" lang="en-US" sz="4400" spc="-1" strike="noStrike">
                <a:solidFill>
                  <a:srgbClr val="ffffff"/>
                </a:solidFill>
                <a:latin typeface="GulimChe"/>
              </a:rPr>
              <a:t>Link</a:t>
            </a:r>
            <a:endParaRPr b="0" lang="en-US" sz="4400" spc="-1" strike="noStrike">
              <a:solidFill>
                <a:srgbClr val="000000"/>
              </a:solidFill>
              <a:latin typeface="Arial"/>
            </a:endParaRPr>
          </a:p>
        </p:txBody>
      </p:sp>
      <p:sp>
        <p:nvSpPr>
          <p:cNvPr id="55" name="PlaceHolder 2"/>
          <p:cNvSpPr>
            <a:spLocks noGrp="1"/>
          </p:cNvSpPr>
          <p:nvPr>
            <p:ph/>
          </p:nvPr>
        </p:nvSpPr>
        <p:spPr>
          <a:xfrm>
            <a:off x="152280" y="1295280"/>
            <a:ext cx="7925040" cy="50292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Stem Cell Therapies </a:t>
            </a:r>
            <a:r>
              <a:rPr b="0" lang="en-US" sz="1600" spc="-1" strike="noStrike" u="sng">
                <a:solidFill>
                  <a:srgbClr val="ffffff"/>
                </a:solidFill>
                <a:uFillTx/>
                <a:latin typeface="GulimChe"/>
              </a:rPr>
              <a:t>today</a:t>
            </a:r>
            <a:r>
              <a:rPr b="0" lang="en-US" sz="1600" spc="-1" strike="noStrike">
                <a:solidFill>
                  <a:srgbClr val="ffffff"/>
                </a:solidFill>
                <a:latin typeface="GulimChe"/>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     </a:t>
            </a:r>
            <a:r>
              <a:rPr b="0" lang="en-US" sz="1600" spc="-1" strike="noStrike">
                <a:solidFill>
                  <a:srgbClr val="ffffff"/>
                </a:solidFill>
                <a:latin typeface="GulimChe"/>
              </a:rPr>
              <a:t>Even though stem cell science is quite new, a few stem cell therapies are being used routinely to cure disease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Adult stem cells transplant: Bone Marrow stem cells. Used to treat leukemia, various types of blood disorders and some types of cancer.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Adult stem cells transplant: Peripheral  Blood stem cells. These are the few stem cells that are present in the blood as opposed to the bone marrow. They can be obtained from drawn blood which makes them more readily available. They are used to treat the same disorders as bone marrow stem cell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Umbilical Cord Blood Stem cell transplant: Umbilical cord blood stem cell transplants are less prone to rejection than either bone marrow or peripheral blood stem cells. This is probably because the cells have not yet developed the features that can be recognized and attacked by the recipient's immune system. Also, because umbilical cord blood lacks well-developed immune cells, there is less chance that the transplanted cells will attack the recipient's body, a problem called graft versus host disease.</a:t>
            </a:r>
            <a:endParaRPr b="0" lang="en-US" sz="1600" spc="-1" strike="noStrike">
              <a:solidFill>
                <a:srgbClr val="000000"/>
              </a:solidFill>
              <a:latin typeface="Arial"/>
            </a:endParaRPr>
          </a:p>
        </p:txBody>
      </p:sp>
      <p:pic>
        <p:nvPicPr>
          <p:cNvPr id="56" name="" descr="Umbilical cord blood"/>
          <p:cNvPicPr/>
          <p:nvPr/>
        </p:nvPicPr>
        <p:blipFill>
          <a:blip r:embed="rId1"/>
          <a:stretch/>
        </p:blipFill>
        <p:spPr>
          <a:xfrm>
            <a:off x="7315200" y="152280"/>
            <a:ext cx="1828800" cy="1362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ulimChe"/>
                <a:ea typeface="GulimChe"/>
              </a:rPr>
              <a:t>Stem Cell Therapies In The Future (Potential)</a:t>
            </a:r>
            <a:endParaRPr b="0" lang="en-US" sz="4000" spc="-1" strike="noStrike">
              <a:solidFill>
                <a:srgbClr val="000000"/>
              </a:solidFill>
              <a:latin typeface="Arial"/>
            </a:endParaRPr>
          </a:p>
        </p:txBody>
      </p:sp>
      <p:sp>
        <p:nvSpPr>
          <p:cNvPr id="58" name="PlaceHolder 2"/>
          <p:cNvSpPr>
            <a:spLocks noGrp="1"/>
          </p:cNvSpPr>
          <p:nvPr>
            <p:ph/>
          </p:nvPr>
        </p:nvSpPr>
        <p:spPr>
          <a:xfrm>
            <a:off x="457200" y="1599840"/>
            <a:ext cx="8229600" cy="4678200"/>
          </a:xfrm>
          <a:prstGeom prst="rect">
            <a:avLst/>
          </a:prstGeom>
          <a:noFill/>
          <a:ln w="0">
            <a:noFill/>
          </a:ln>
        </p:spPr>
        <p:txBody>
          <a:bodyPr lIns="90000" rIns="90000" tIns="46800" bIns="46800" anchor="t">
            <a:normAutofit fontScale="88000"/>
          </a:bodyPr>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Researchers and physicians are working to design stem cell therapies that</a:t>
            </a: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Are more effective, and </a:t>
            </a: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Reduce the invasiveness and the risk to patients </a:t>
            </a:r>
            <a:endParaRPr b="0" lang="en-US" sz="1400" spc="-1" strike="noStrike">
              <a:solidFill>
                <a:srgbClr val="000000"/>
              </a:solidFill>
              <a:latin typeface="Arial"/>
            </a:endParaRPr>
          </a:p>
          <a:p>
            <a:pPr marL="3016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    </a:t>
            </a:r>
            <a:r>
              <a:rPr b="0" lang="en-US" sz="1400" spc="-1" strike="noStrike">
                <a:solidFill>
                  <a:srgbClr val="ffffff"/>
                </a:solidFill>
                <a:latin typeface="GulimChe"/>
                <a:ea typeface="GulimChe"/>
              </a:rPr>
              <a:t>The stem cell therapies used today rely on transplanted stem cells from a donor. This increases the risk of the recipient’s body rejecting the stem cells or graft versus host disease. In the future it may be possible for a patient use a sample of their own stem cells to repair tissue. This is the aim of stem cell therapies in the future.</a:t>
            </a:r>
            <a:endParaRPr b="0" lang="en-US" sz="1400" spc="-1" strike="noStrike">
              <a:solidFill>
                <a:srgbClr val="000000"/>
              </a:solidFill>
              <a:latin typeface="Arial"/>
            </a:endParaRPr>
          </a:p>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This can be done by: </a:t>
            </a:r>
            <a:endParaRPr b="0" lang="en-US" sz="1400" spc="-1" strike="noStrike">
              <a:solidFill>
                <a:srgbClr val="000000"/>
              </a:solidFill>
              <a:latin typeface="Arial"/>
            </a:endParaRPr>
          </a:p>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Collecting healthy adult stem cells from a patient and manipulating them in the laboratory to create new tissue. The tissue would be re-transplanted back into the patient's body, where it would work to restore a lost function. </a:t>
            </a: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Therapeutic cloning, might enable the creation of embryonic stem cells that are genetically identical to the patient. </a:t>
            </a: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One less invasive way to achieve this goal would be to manipulate existing stem cells within the body to perform therapeutic tasks. For example, scientists might design a drug that would direct a certain type of stem cell to restore a lost function inside the patient's body. This approach would eliminate the need for invasive surgical procedures to harvest and transplant stem cells. </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Transplant therapy"/>
          <p:cNvPicPr/>
          <p:nvPr/>
        </p:nvPicPr>
        <p:blipFill>
          <a:blip r:embed="rId1"/>
          <a:stretch/>
        </p:blipFill>
        <p:spPr>
          <a:xfrm>
            <a:off x="990720" y="380880"/>
            <a:ext cx="3163680" cy="4876920"/>
          </a:xfrm>
          <a:prstGeom prst="rect">
            <a:avLst/>
          </a:prstGeom>
          <a:ln w="0">
            <a:noFill/>
          </a:ln>
        </p:spPr>
      </p:pic>
      <p:pic>
        <p:nvPicPr>
          <p:cNvPr id="60" name="" descr="Drug therapy"/>
          <p:cNvPicPr/>
          <p:nvPr/>
        </p:nvPicPr>
        <p:blipFill>
          <a:blip r:embed="rId2"/>
          <a:stretch/>
        </p:blipFill>
        <p:spPr>
          <a:xfrm>
            <a:off x="4724280" y="380880"/>
            <a:ext cx="3200400" cy="4876920"/>
          </a:xfrm>
          <a:prstGeom prst="rect">
            <a:avLst/>
          </a:prstGeom>
          <a:ln w="0">
            <a:noFill/>
          </a:ln>
        </p:spPr>
      </p:pic>
      <p:sp>
        <p:nvSpPr>
          <p:cNvPr id="61" name=""/>
          <p:cNvSpPr/>
          <p:nvPr/>
        </p:nvSpPr>
        <p:spPr>
          <a:xfrm>
            <a:off x="1219320" y="5334120"/>
            <a:ext cx="66294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m cells have the potential to tre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kinson's and Alzheimer's diseases, spinal cord injury, stroke, burns, heart disease, diabetes, osteoarthritis and rheumatoid arthritis –to name a few.</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3T05:08:25Z</dcterms:created>
  <dc:creator>DCM</dc:creator>
  <dc:description/>
  <dc:language>en-US</dc:language>
  <cp:lastModifiedBy>ICT Office</cp:lastModifiedBy>
  <dcterms:modified xsi:type="dcterms:W3CDTF">2007-10-12T05:42:45Z</dcterms:modified>
  <cp:revision>19</cp:revision>
  <dc:subject/>
  <dc:title>Stem Cells</dc:title>
</cp:coreProperties>
</file>